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08D-B7D8-43A6-9E98-46579990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FD1-933C-4352-80F9-3B9811D9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CF9-64D0-4386-80A4-77A80AA7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6FB-A79A-494F-A936-5B0EF872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57E-1DCE-430C-9874-CC845940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9F6-FB26-49EC-B56E-214776D9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7F2-108B-4DF5-AB69-AF40FE80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EDD-DCAB-4ADE-ACC3-9C2BB01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E26-CAD6-494E-8F6F-D17FC15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C10-5FA5-48F1-A280-752D0D1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0E5-2A25-4202-A497-9372185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AEC-96E2-41AB-A371-D0C7DC63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1AF6-569F-44B8-A799-028EE578C2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tion 2: Understanding Chemical Re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d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way of representing chemical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lls what reacts and what is produ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eft side of the equation lists all the reactants while the right side lists all the produc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row points between the reactants and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ant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. Iron + Oxyg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ron(III) 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 – 4 on page 2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erving M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w of Conservation of Mass states that, in a chemical reaction, the total mass of the reactants is always equal to the total mass of the produ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ing that the mass of the products is always the same as the mass of the rea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lancing Chemic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describe chemical reactions in two 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ord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g. methane + oxyge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rbon dioxide +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keleton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g.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+ 2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+ 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Law of Conservation of Mass the mass of the reactants must equal the mass of the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must be a balance between the number of atoms in the reactants and the number of atoms in th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Balance an Eq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ron reacts with oxygen to form magnetic iron oxide (F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.  What is the balanced chemical equation for this rea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rite the word equation for the reac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ron + oxygen </a:t>
            </a: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magnetic iron ox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rite the skeleton equation by replacing each name with a correct formu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e + 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Fe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nt the numbers of atoms of each type in reactants and produ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Type of atom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Reactants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e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e each of the formulas by the appropriate coefficients to balance the number of ato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3Fe + 2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Fe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OU TRY IT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the following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 + 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Mg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 +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Mg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 – 3 on page 2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00:43Z</dcterms:created>
  <dc:creator>Administrator</dc:creator>
  <dc:description/>
  <dc:language>en-US</dc:language>
  <cp:lastModifiedBy>amy.cook</cp:lastModifiedBy>
  <dcterms:modified xsi:type="dcterms:W3CDTF">2010-11-22T18:21:09Z</dcterms:modified>
  <cp:revision>18</cp:revision>
  <dc:subject/>
  <dc:title>Section 2: Understanding Chemical Reactions</dc:title>
</cp:coreProperties>
</file>